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88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86000" y="685440"/>
            <a:ext cx="2286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E7ED-E52B-43EC-858D-DC0F64B6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C05-B7FB-43D4-B711-49995F53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286000" y="685800"/>
            <a:ext cx="2286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4EF-B5C9-4E0E-8CAE-7DEFD7DC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1645920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15856920"/>
            <a:ext cx="1645920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B65-B6B0-4442-A955-C069A2B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1585692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480" y="1585692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614-25AC-4F15-8644-5C0F1283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640080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640080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1585692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1585692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15856920"/>
            <a:ext cx="52995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1C1-B403-41F6-91FF-44D39228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6400800"/>
            <a:ext cx="164592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E6E-8D81-494F-9AEA-ED66C055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1645920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623-9FFE-4C21-A43D-D52C4A47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CC6-7EC3-4E28-B25E-5E940B28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092-5EDE-4B8F-9B4A-1E882108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098720"/>
            <a:ext cx="164592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91E-7424-4C45-A11D-EF7A740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1585692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40A-1822-4A5D-8EE5-4735652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480" y="1585692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E76-FD0D-4AE2-A0E0-D68DAC7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6400800"/>
            <a:ext cx="803196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15856920"/>
            <a:ext cx="16459200" cy="86353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8EE-48B1-4659-974E-0A78D55A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098720"/>
            <a:ext cx="16459200" cy="457200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6400800"/>
            <a:ext cx="16459200" cy="1810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rmAutofit/>
          </a:bodyPr>
          <a:p>
            <a:pPr marL="979560" indent="-97956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1" marL="2122560" indent="-81612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2" marL="3265560" indent="-6526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3" marL="4572000" indent="-65232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4" marL="5878440" indent="-65412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5" marL="5878440" indent="-65412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6" marL="5878440" indent="-65412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2498076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24980760"/>
            <a:ext cx="5790960" cy="19051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2498076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ED53-2439-423C-B925-E82BD4D4F72C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6"/>
          <p:cNvGrpSpPr/>
          <p:nvPr/>
        </p:nvGrpSpPr>
        <p:grpSpPr>
          <a:xfrm>
            <a:off x="6324480" y="16078320"/>
            <a:ext cx="1067040" cy="1904760"/>
            <a:chOff x="6324480" y="16078320"/>
            <a:chExt cx="1067040" cy="1904760"/>
          </a:xfrm>
        </p:grpSpPr>
        <p:pic>
          <p:nvPicPr>
            <p:cNvPr id="49" name="Picture 75" descr=""/>
            <p:cNvPicPr/>
            <p:nvPr/>
          </p:nvPicPr>
          <p:blipFill>
            <a:blip r:embed="rId1"/>
            <a:srcRect l="5239" t="24413" r="89041" b="59189"/>
            <a:stretch/>
          </p:blipFill>
          <p:spPr>
            <a:xfrm>
              <a:off x="6495840" y="16401960"/>
              <a:ext cx="73476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Donut 45"/>
            <p:cNvSpPr/>
            <p:nvPr/>
          </p:nvSpPr>
          <p:spPr>
            <a:xfrm>
              <a:off x="6324480" y="16078320"/>
              <a:ext cx="1067040" cy="1904760"/>
            </a:xfrm>
            <a:custGeom>
              <a:avLst/>
              <a:gdLst>
                <a:gd name="textAreaLeft" fmla="*/ 156240 w 1067040"/>
                <a:gd name="textAreaRight" fmla="*/ 910800 w 1067040"/>
                <a:gd name="textAreaTop" fmla="*/ 278640 h 1904760"/>
                <a:gd name="textAreaBottom" fmla="*/ 1626120 h 1904760"/>
              </a:gdLst>
              <a:ahLst/>
              <a:rect l="textAreaLeft" t="textAreaTop" r="textAreaRight" b="textAreaBottom"/>
              <a:pathLst>
                <a:path w="1066800" h="1905000">
                  <a:moveTo>
                    <a:pt x="0" y="952500"/>
                  </a:moveTo>
                  <a:lnTo>
                    <a:pt x="0" y="952500"/>
                  </a:lnTo>
                  <a:arcTo wR="533400" hR="952500" stAng="-10799994" swAng="5400001"/>
                  <a:lnTo>
                    <a:pt x="533402" y="1"/>
                  </a:lnTo>
                  <a:arcTo wR="533400" hR="952500" stAng="-5399996" swAng="5400003"/>
                  <a:lnTo>
                    <a:pt x="1066801" y="952502"/>
                  </a:lnTo>
                  <a:arcTo wR="533400" hR="952500" stAng="0" swAng="5400004"/>
                  <a:lnTo>
                    <a:pt x="533400" y="1905002"/>
                  </a:lnTo>
                  <a:arcTo wR="533400" hR="952500" stAng="5400004" swAng="5400003"/>
                  <a:close/>
                  <a:moveTo>
                    <a:pt x="266700" y="952500"/>
                  </a:moveTo>
                  <a:lnTo>
                    <a:pt x="266700" y="952500"/>
                  </a:lnTo>
                  <a:arcTo wR="266700" hR="685800" stAng="10800000" swAng="-5399995"/>
                  <a:lnTo>
                    <a:pt x="533399" y="1638300"/>
                  </a:lnTo>
                  <a:arcTo wR="266700" hR="685800" stAng="5400000" swAng="-5400000"/>
                  <a:lnTo>
                    <a:pt x="800099" y="952500"/>
                  </a:lnTo>
                  <a:arcTo wR="266700" hR="685800" stAng="0" swAng="-5400000"/>
                  <a:lnTo>
                    <a:pt x="533399" y="266700"/>
                  </a:lnTo>
                  <a:arcTo wR="266700" hR="685800" stAng="-5399995" swAng="-540000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64"/>
          <p:cNvSpPr/>
          <p:nvPr/>
        </p:nvSpPr>
        <p:spPr>
          <a:xfrm>
            <a:off x="8381880" y="17830800"/>
            <a:ext cx="4343400" cy="281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1" descr=""/>
          <p:cNvPicPr/>
          <p:nvPr/>
        </p:nvPicPr>
        <p:blipFill>
          <a:blip r:embed="rId2"/>
          <a:srcRect l="7618" t="7805" r="23402" b="35614"/>
          <a:stretch/>
        </p:blipFill>
        <p:spPr>
          <a:xfrm>
            <a:off x="10725120" y="17859240"/>
            <a:ext cx="1905120" cy="11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89" descr=""/>
          <p:cNvPicPr/>
          <p:nvPr/>
        </p:nvPicPr>
        <p:blipFill>
          <a:blip r:embed="rId3"/>
          <a:srcRect l="5446" t="21155" r="8996" b="0"/>
          <a:stretch/>
        </p:blipFill>
        <p:spPr>
          <a:xfrm>
            <a:off x="8408880" y="17907120"/>
            <a:ext cx="2030400" cy="138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15544800" cy="1993680"/>
          </a:xfrm>
          <a:prstGeom prst="rect">
            <a:avLst/>
          </a:prstGeom>
          <a:noFill/>
          <a:ln w="0">
            <a:noFill/>
          </a:ln>
        </p:spPr>
        <p:txBody>
          <a:bodyPr lIns="261360" rIns="261360" tIns="130680" bIns="130680" anchor="ctr">
            <a:noAutofit/>
          </a:bodyPr>
          <a:p>
            <a:pPr indent="0" algn="ctr">
              <a:buNone/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Arial"/>
              </a:rPr>
              <a:t>Air Quality Work</a:t>
            </a: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5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64240" y="14638320"/>
            <a:ext cx="157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efining an AQ Community Information Infra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88120" y="3200400"/>
            <a:ext cx="1601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Connecting AQ Data, Science, Management and Poli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753480" y="25831800"/>
            <a:ext cx="166413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"/>
              </a:rPr>
              <a:t>http://wiki.esipfed.org/index.php/Air_Quality_Work_Group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2" descr=""/>
          <p:cNvPicPr/>
          <p:nvPr/>
        </p:nvPicPr>
        <p:blipFill>
          <a:blip r:embed="rId4"/>
          <a:srcRect l="9091" t="18300" r="58590" b="32030"/>
          <a:stretch/>
        </p:blipFill>
        <p:spPr>
          <a:xfrm>
            <a:off x="685800" y="18067320"/>
            <a:ext cx="5010120" cy="570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3" descr=""/>
          <p:cNvPicPr/>
          <p:nvPr/>
        </p:nvPicPr>
        <p:blipFill>
          <a:blip r:embed="rId5"/>
          <a:srcRect l="9091" t="18300" r="58590" b="32030"/>
          <a:stretch/>
        </p:blipFill>
        <p:spPr>
          <a:xfrm>
            <a:off x="685800" y="18067320"/>
            <a:ext cx="5010120" cy="5707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5"/>
          <p:cNvSpPr/>
          <p:nvPr/>
        </p:nvSpPr>
        <p:spPr>
          <a:xfrm>
            <a:off x="4498920" y="18111960"/>
            <a:ext cx="1193760" cy="103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6"/>
          <p:cNvSpPr/>
          <p:nvPr/>
        </p:nvSpPr>
        <p:spPr>
          <a:xfrm>
            <a:off x="5183280" y="18118080"/>
            <a:ext cx="50616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/>
          <p:cNvSpPr/>
          <p:nvPr/>
        </p:nvSpPr>
        <p:spPr>
          <a:xfrm>
            <a:off x="4648320" y="18073800"/>
            <a:ext cx="998280" cy="976320"/>
          </a:xfrm>
          <a:prstGeom prst="roundRect">
            <a:avLst>
              <a:gd name="adj" fmla="val 49676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6"/>
          <p:cNvSpPr/>
          <p:nvPr/>
        </p:nvSpPr>
        <p:spPr>
          <a:xfrm>
            <a:off x="8292960" y="16584480"/>
            <a:ext cx="47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AQ Community Port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and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9" descr=""/>
          <p:cNvPicPr/>
          <p:nvPr/>
        </p:nvPicPr>
        <p:blipFill>
          <a:blip r:embed="rId6"/>
          <a:srcRect l="53914" t="14046" r="21091" b="60690"/>
          <a:stretch/>
        </p:blipFill>
        <p:spPr>
          <a:xfrm>
            <a:off x="14554080" y="17221320"/>
            <a:ext cx="205740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0"/>
          <p:cNvSpPr/>
          <p:nvPr/>
        </p:nvSpPr>
        <p:spPr>
          <a:xfrm>
            <a:off x="8713440" y="24460200"/>
            <a:ext cx="354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AQ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Metadata 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7"/>
          <p:cNvSpPr/>
          <p:nvPr/>
        </p:nvSpPr>
        <p:spPr>
          <a:xfrm>
            <a:off x="8381880" y="21945600"/>
            <a:ext cx="4343400" cy="236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8"/>
          <p:cNvSpPr/>
          <p:nvPr/>
        </p:nvSpPr>
        <p:spPr>
          <a:xfrm flipH="1" flipV="1">
            <a:off x="3316320" y="22742280"/>
            <a:ext cx="5068800" cy="53964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0"/>
          <p:cNvSpPr/>
          <p:nvPr/>
        </p:nvSpPr>
        <p:spPr>
          <a:xfrm>
            <a:off x="6629400" y="17678520"/>
            <a:ext cx="1676520" cy="137160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1"/>
          <p:cNvSpPr/>
          <p:nvPr/>
        </p:nvSpPr>
        <p:spPr>
          <a:xfrm>
            <a:off x="10439280" y="20726280"/>
            <a:ext cx="0" cy="121932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3"/>
          <p:cNvSpPr/>
          <p:nvPr/>
        </p:nvSpPr>
        <p:spPr>
          <a:xfrm flipV="1">
            <a:off x="5715000" y="20116800"/>
            <a:ext cx="2590920" cy="175248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4"/>
          <p:cNvSpPr/>
          <p:nvPr/>
        </p:nvSpPr>
        <p:spPr>
          <a:xfrm flipV="1">
            <a:off x="4419720" y="20497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5"/>
          <p:cNvSpPr/>
          <p:nvPr/>
        </p:nvSpPr>
        <p:spPr>
          <a:xfrm>
            <a:off x="3124080" y="20802600"/>
            <a:ext cx="622440" cy="819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creen shot 2009-10-26 at 9.13.42 PM.png"/>
          <p:cNvPicPr/>
          <p:nvPr/>
        </p:nvPicPr>
        <p:blipFill>
          <a:blip r:embed="rId7"/>
          <a:srcRect l="0" t="16667" r="43088" b="42002"/>
          <a:stretch/>
        </p:blipFill>
        <p:spPr>
          <a:xfrm>
            <a:off x="9439200" y="18612000"/>
            <a:ext cx="2743200" cy="141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88" descr=""/>
          <p:cNvPicPr/>
          <p:nvPr/>
        </p:nvPicPr>
        <p:blipFill>
          <a:blip r:embed="rId8"/>
          <a:stretch/>
        </p:blipFill>
        <p:spPr>
          <a:xfrm>
            <a:off x="11506320" y="19735920"/>
            <a:ext cx="1143000" cy="858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2" descr=""/>
          <p:cNvPicPr/>
          <p:nvPr/>
        </p:nvPicPr>
        <p:blipFill>
          <a:blip r:embed="rId9"/>
          <a:srcRect l="0" t="8693" r="45493" b="1558"/>
          <a:stretch/>
        </p:blipFill>
        <p:spPr>
          <a:xfrm>
            <a:off x="10848960" y="22116960"/>
            <a:ext cx="1724040" cy="20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93" descr=""/>
          <p:cNvPicPr/>
          <p:nvPr/>
        </p:nvPicPr>
        <p:blipFill>
          <a:blip r:embed="rId10"/>
          <a:stretch/>
        </p:blipFill>
        <p:spPr>
          <a:xfrm>
            <a:off x="8458200" y="22097880"/>
            <a:ext cx="2286000" cy="213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11"/>
          <a:srcRect l="19196" t="16082" r="6877" b="44908"/>
          <a:stretch/>
        </p:blipFill>
        <p:spPr>
          <a:xfrm>
            <a:off x="8429760" y="19716840"/>
            <a:ext cx="2133360" cy="90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Donut 40"/>
          <p:cNvSpPr/>
          <p:nvPr/>
        </p:nvSpPr>
        <p:spPr>
          <a:xfrm>
            <a:off x="14020920" y="16840080"/>
            <a:ext cx="3066840" cy="2438640"/>
          </a:xfrm>
          <a:custGeom>
            <a:avLst/>
            <a:gdLst>
              <a:gd name="textAreaLeft" fmla="*/ 448920 w 3066840"/>
              <a:gd name="textAreaRight" fmla="*/ 2617920 w 3066840"/>
              <a:gd name="textAreaTop" fmla="*/ 357120 h 2438640"/>
              <a:gd name="textAreaBottom" fmla="*/ 2081520 h 2438640"/>
            </a:gdLst>
            <a:ahLst/>
            <a:rect l="textAreaLeft" t="textAreaTop" r="textAreaRight" b="textAreaBottom"/>
            <a:pathLst>
              <a:path w="3067050" h="2438400">
                <a:moveTo>
                  <a:pt x="0" y="1219200"/>
                </a:moveTo>
                <a:lnTo>
                  <a:pt x="0" y="1219200"/>
                </a:lnTo>
                <a:arcTo wR="1533525" hR="1219200" stAng="-10799996" swAng="5400001"/>
                <a:lnTo>
                  <a:pt x="1533527" y="2"/>
                </a:lnTo>
                <a:arcTo wR="1533525" hR="1219200" stAng="-5399997" swAng="5400004"/>
                <a:lnTo>
                  <a:pt x="3067051" y="1219205"/>
                </a:lnTo>
                <a:arcTo wR="1533525" hR="1219200" stAng="0" swAng="5400003"/>
                <a:lnTo>
                  <a:pt x="1533525" y="2438405"/>
                </a:lnTo>
                <a:arcTo wR="1533525" hR="1219200" stAng="5400003" swAng="5400002"/>
                <a:close/>
                <a:moveTo>
                  <a:pt x="431987" y="1219200"/>
                </a:moveTo>
                <a:lnTo>
                  <a:pt x="431987" y="1219200"/>
                </a:lnTo>
                <a:arcTo wR="1101538" hR="787213" stAng="-10799997" swAng="-5399999"/>
                <a:lnTo>
                  <a:pt x="1533524" y="2006414"/>
                </a:lnTo>
                <a:arcTo wR="1101538" hR="787213" stAng="5400000" swAng="-5399997"/>
                <a:lnTo>
                  <a:pt x="2635062" y="1219202"/>
                </a:lnTo>
                <a:arcTo wR="1101538" hR="787213" stAng="0" swAng="-5400000"/>
                <a:lnTo>
                  <a:pt x="1533524" y="431989"/>
                </a:lnTo>
                <a:arcTo wR="1101538" hR="787213" stAng="-5399996" swAng="-5400001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2"/>
          <p:cNvSpPr/>
          <p:nvPr/>
        </p:nvSpPr>
        <p:spPr>
          <a:xfrm>
            <a:off x="13818600" y="15925680"/>
            <a:ext cx="404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AQ Data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Service Prov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2"/>
          <p:cNvSpPr/>
          <p:nvPr/>
        </p:nvSpPr>
        <p:spPr>
          <a:xfrm flipH="1">
            <a:off x="12724920" y="18135720"/>
            <a:ext cx="1752840" cy="45720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7"/>
          <p:cNvGrpSpPr/>
          <p:nvPr/>
        </p:nvGrpSpPr>
        <p:grpSpPr>
          <a:xfrm>
            <a:off x="5334120" y="16078320"/>
            <a:ext cx="1066680" cy="1904760"/>
            <a:chOff x="5334120" y="16078320"/>
            <a:chExt cx="1066680" cy="1904760"/>
          </a:xfrm>
        </p:grpSpPr>
        <p:pic>
          <p:nvPicPr>
            <p:cNvPr id="82" name="Picture 75" descr=""/>
            <p:cNvPicPr/>
            <p:nvPr/>
          </p:nvPicPr>
          <p:blipFill>
            <a:blip r:embed="rId12"/>
            <a:srcRect l="5239" t="24413" r="89041" b="59189"/>
            <a:stretch/>
          </p:blipFill>
          <p:spPr>
            <a:xfrm>
              <a:off x="5505480" y="16401960"/>
              <a:ext cx="73476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Donut 49"/>
            <p:cNvSpPr/>
            <p:nvPr/>
          </p:nvSpPr>
          <p:spPr>
            <a:xfrm>
              <a:off x="5334120" y="16078320"/>
              <a:ext cx="1066680" cy="1904760"/>
            </a:xfrm>
            <a:custGeom>
              <a:avLst/>
              <a:gdLst>
                <a:gd name="textAreaLeft" fmla="*/ 156240 w 1066680"/>
                <a:gd name="textAreaRight" fmla="*/ 910440 w 1066680"/>
                <a:gd name="textAreaTop" fmla="*/ 278640 h 1904760"/>
                <a:gd name="textAreaBottom" fmla="*/ 1626120 h 1904760"/>
              </a:gdLst>
              <a:ahLst/>
              <a:rect l="textAreaLeft" t="textAreaTop" r="textAreaRight" b="textAreaBottom"/>
              <a:pathLst>
                <a:path w="1066800" h="1905000">
                  <a:moveTo>
                    <a:pt x="0" y="952500"/>
                  </a:moveTo>
                  <a:lnTo>
                    <a:pt x="0" y="952500"/>
                  </a:lnTo>
                  <a:arcTo wR="533400" hR="952500" stAng="-10799994" swAng="5400001"/>
                  <a:lnTo>
                    <a:pt x="533402" y="1"/>
                  </a:lnTo>
                  <a:arcTo wR="533400" hR="952500" stAng="-5399996" swAng="5400003"/>
                  <a:lnTo>
                    <a:pt x="1066801" y="952502"/>
                  </a:lnTo>
                  <a:arcTo wR="533400" hR="952500" stAng="0" swAng="5400004"/>
                  <a:lnTo>
                    <a:pt x="533400" y="1905002"/>
                  </a:lnTo>
                  <a:arcTo wR="533400" hR="952500" stAng="5400004" swAng="5400003"/>
                  <a:close/>
                  <a:moveTo>
                    <a:pt x="266700" y="952500"/>
                  </a:moveTo>
                  <a:lnTo>
                    <a:pt x="266700" y="952500"/>
                  </a:lnTo>
                  <a:arcTo wR="266700" hR="685800" stAng="10800000" swAng="-5399995"/>
                  <a:lnTo>
                    <a:pt x="533399" y="1638300"/>
                  </a:lnTo>
                  <a:arcTo wR="266700" hR="685800" stAng="5400000" swAng="-5400000"/>
                  <a:lnTo>
                    <a:pt x="800099" y="952500"/>
                  </a:lnTo>
                  <a:arcTo wR="266700" hR="685800" stAng="0" swAng="-5400000"/>
                  <a:lnTo>
                    <a:pt x="533399" y="266700"/>
                  </a:lnTo>
                  <a:arcTo wR="266700" hR="685800" stAng="-5399995" swAng="-540000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73"/>
          <p:cNvSpPr/>
          <p:nvPr/>
        </p:nvSpPr>
        <p:spPr>
          <a:xfrm>
            <a:off x="5230800" y="1569708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AQ 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7"/>
          <p:cNvGrpSpPr/>
          <p:nvPr/>
        </p:nvGrpSpPr>
        <p:grpSpPr>
          <a:xfrm>
            <a:off x="4809960" y="6734160"/>
            <a:ext cx="8067960" cy="4772160"/>
            <a:chOff x="4809960" y="6734160"/>
            <a:chExt cx="8067960" cy="4772160"/>
          </a:xfrm>
        </p:grpSpPr>
        <p:pic>
          <p:nvPicPr>
            <p:cNvPr id="86" name="Picture 2" descr=""/>
            <p:cNvPicPr/>
            <p:nvPr/>
          </p:nvPicPr>
          <p:blipFill>
            <a:blip r:embed="rId13"/>
            <a:srcRect l="24917" t="35354" r="26215" b="38351"/>
            <a:stretch/>
          </p:blipFill>
          <p:spPr>
            <a:xfrm>
              <a:off x="5800320" y="7877160"/>
              <a:ext cx="6152400" cy="273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Donut 52"/>
            <p:cNvSpPr/>
            <p:nvPr/>
          </p:nvSpPr>
          <p:spPr>
            <a:xfrm>
              <a:off x="4809960" y="6734160"/>
              <a:ext cx="8067960" cy="4772160"/>
            </a:xfrm>
            <a:custGeom>
              <a:avLst/>
              <a:gdLst>
                <a:gd name="textAreaLeft" fmla="*/ 1181520 w 8067960"/>
                <a:gd name="textAreaRight" fmla="*/ 6886440 w 8067960"/>
                <a:gd name="textAreaTop" fmla="*/ 698760 h 4772160"/>
                <a:gd name="textAreaBottom" fmla="*/ 4073400 h 4772160"/>
              </a:gdLst>
              <a:ahLst/>
              <a:rect l="textAreaLeft" t="textAreaTop" r="textAreaRight" b="textAreaBottom"/>
              <a:pathLst>
                <a:path w="8067675" h="4772025">
                  <a:moveTo>
                    <a:pt x="0" y="2386013"/>
                  </a:moveTo>
                  <a:lnTo>
                    <a:pt x="0" y="2386013"/>
                  </a:lnTo>
                  <a:arcTo wR="4033838" hR="2386013" stAng="-10799996" swAng="5400002"/>
                  <a:lnTo>
                    <a:pt x="4033842" y="5"/>
                  </a:lnTo>
                  <a:arcTo wR="4033838" hR="2386013" stAng="-5399996" swAng="5400002"/>
                  <a:lnTo>
                    <a:pt x="8067677" y="2386025"/>
                  </a:lnTo>
                  <a:arcTo wR="4033838" hR="2386013" stAng="0" swAng="5400001"/>
                  <a:lnTo>
                    <a:pt x="4033838" y="4772038"/>
                  </a:lnTo>
                  <a:arcTo wR="4033838" hR="2386013" stAng="5400001" swAng="5400003"/>
                  <a:close/>
                  <a:moveTo>
                    <a:pt x="1250509" y="2386013"/>
                  </a:moveTo>
                  <a:lnTo>
                    <a:pt x="1250509" y="2386013"/>
                  </a:lnTo>
                  <a:arcTo wR="2783328" hR="1135503" stAng="-10799996" swAng="-5400001"/>
                  <a:lnTo>
                    <a:pt x="4033836" y="3521519"/>
                  </a:lnTo>
                  <a:arcTo wR="2783328" hR="1135503" stAng="5400003" swAng="-5400001"/>
                  <a:lnTo>
                    <a:pt x="6817165" y="2386018"/>
                  </a:lnTo>
                  <a:arcTo wR="2783328" hR="1135503" stAng="0" swAng="-5400000"/>
                  <a:lnTo>
                    <a:pt x="4033837" y="1250515"/>
                  </a:lnTo>
                  <a:arcTo wR="2783328" hR="1135503" stAng="-5399997" swAng="-5399999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3" descr=""/>
          <p:cNvPicPr/>
          <p:nvPr/>
        </p:nvPicPr>
        <p:blipFill>
          <a:blip r:embed="rId14"/>
          <a:stretch/>
        </p:blipFill>
        <p:spPr>
          <a:xfrm>
            <a:off x="3352680" y="6324480"/>
            <a:ext cx="199548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Text Box 4"/>
          <p:cNvSpPr/>
          <p:nvPr/>
        </p:nvSpPr>
        <p:spPr>
          <a:xfrm>
            <a:off x="3276720" y="56386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486400" y="4876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Surface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24680" y="5029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Satel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573000" y="5572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0134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5"/>
          <a:stretch/>
        </p:blipFill>
        <p:spPr>
          <a:xfrm>
            <a:off x="10210680" y="5896080"/>
            <a:ext cx="205740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" descr=""/>
          <p:cNvPicPr/>
          <p:nvPr/>
        </p:nvPicPr>
        <p:blipFill>
          <a:blip r:embed="rId16"/>
          <a:stretch/>
        </p:blipFill>
        <p:spPr>
          <a:xfrm>
            <a:off x="12420720" y="6200640"/>
            <a:ext cx="205740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11" descr=""/>
          <p:cNvPicPr/>
          <p:nvPr/>
        </p:nvPicPr>
        <p:blipFill>
          <a:blip r:embed="rId17"/>
          <a:stretch/>
        </p:blipFill>
        <p:spPr>
          <a:xfrm>
            <a:off x="7924680" y="5572080"/>
            <a:ext cx="20908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12" descr=""/>
          <p:cNvPicPr/>
          <p:nvPr/>
        </p:nvPicPr>
        <p:blipFill>
          <a:blip r:embed="rId18"/>
          <a:stretch/>
        </p:blipFill>
        <p:spPr>
          <a:xfrm>
            <a:off x="5486400" y="5929200"/>
            <a:ext cx="2216160" cy="13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13"/>
          <p:cNvSpPr/>
          <p:nvPr/>
        </p:nvSpPr>
        <p:spPr>
          <a:xfrm>
            <a:off x="3733920" y="10820520"/>
            <a:ext cx="2361960" cy="947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ng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438960" y="11125080"/>
            <a:ext cx="2324160" cy="947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9144000" y="11125080"/>
            <a:ext cx="2057400" cy="9471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mispheric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3429000" y="1181088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Real-tim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6477120" y="120394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Regulato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9067680" y="121158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Poli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4495680" y="1333512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2f2f2"/>
                </a:solidFill>
                <a:uFillTx/>
                <a:latin typeface="Arial"/>
              </a:rPr>
              <a:t>Air Quality &amp; Health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11506320" y="10744200"/>
            <a:ext cx="2133360" cy="947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ospheric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11582280" y="11734920"/>
            <a:ext cx="200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Science &amp;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638680" y="4191120"/>
            <a:ext cx="6705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2f2f2"/>
                </a:solidFill>
                <a:uFillTx/>
                <a:latin typeface="Arial"/>
              </a:rPr>
              <a:t>Observin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9"/>
          <p:cNvSpPr/>
          <p:nvPr/>
        </p:nvSpPr>
        <p:spPr>
          <a:xfrm flipH="1">
            <a:off x="5153040" y="9944280"/>
            <a:ext cx="1171440" cy="7714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9"/>
          <p:cNvSpPr/>
          <p:nvPr/>
        </p:nvSpPr>
        <p:spPr>
          <a:xfrm flipH="1">
            <a:off x="7543800" y="10363320"/>
            <a:ext cx="457200" cy="76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9"/>
          <p:cNvSpPr/>
          <p:nvPr/>
        </p:nvSpPr>
        <p:spPr>
          <a:xfrm>
            <a:off x="9858240" y="10344240"/>
            <a:ext cx="381240" cy="76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9"/>
          <p:cNvSpPr/>
          <p:nvPr/>
        </p:nvSpPr>
        <p:spPr>
          <a:xfrm>
            <a:off x="11182320" y="9915480"/>
            <a:ext cx="1219320" cy="76212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9"/>
          <p:cNvSpPr/>
          <p:nvPr/>
        </p:nvSpPr>
        <p:spPr>
          <a:xfrm>
            <a:off x="5114880" y="7829640"/>
            <a:ext cx="1133640" cy="79992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9"/>
          <p:cNvSpPr/>
          <p:nvPr/>
        </p:nvSpPr>
        <p:spPr>
          <a:xfrm>
            <a:off x="6791400" y="7391520"/>
            <a:ext cx="838080" cy="68580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>
            <a:off x="8915400" y="7010280"/>
            <a:ext cx="0" cy="83844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9"/>
          <p:cNvSpPr/>
          <p:nvPr/>
        </p:nvSpPr>
        <p:spPr>
          <a:xfrm flipH="1">
            <a:off x="10277640" y="7267680"/>
            <a:ext cx="914400" cy="76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9"/>
          <p:cNvSpPr/>
          <p:nvPr/>
        </p:nvSpPr>
        <p:spPr>
          <a:xfrm flipH="1">
            <a:off x="11429640" y="7648560"/>
            <a:ext cx="1276200" cy="80964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87"/>
          <p:cNvSpPr/>
          <p:nvPr/>
        </p:nvSpPr>
        <p:spPr>
          <a:xfrm>
            <a:off x="4267080" y="18097560"/>
            <a:ext cx="1419480" cy="1047600"/>
          </a:xfrm>
          <a:prstGeom prst="roundRect">
            <a:avLst>
              <a:gd name="adj" fmla="val 16667"/>
            </a:avLst>
          </a:prstGeom>
          <a:solidFill>
            <a:srgbClr val="bcf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8"/>
          <p:cNvSpPr/>
          <p:nvPr/>
        </p:nvSpPr>
        <p:spPr>
          <a:xfrm>
            <a:off x="685800" y="17983080"/>
            <a:ext cx="5029200" cy="1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0"/>
          <p:cNvSpPr/>
          <p:nvPr/>
        </p:nvSpPr>
        <p:spPr>
          <a:xfrm rot="18972000">
            <a:off x="402840" y="17966880"/>
            <a:ext cx="76212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1"/>
          <p:cNvSpPr/>
          <p:nvPr/>
        </p:nvSpPr>
        <p:spPr>
          <a:xfrm rot="18972000">
            <a:off x="5203800" y="23605920"/>
            <a:ext cx="762120" cy="37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2"/>
          <p:cNvSpPr/>
          <p:nvPr/>
        </p:nvSpPr>
        <p:spPr>
          <a:xfrm rot="12940200">
            <a:off x="428400" y="23577120"/>
            <a:ext cx="76176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3"/>
          <p:cNvSpPr/>
          <p:nvPr/>
        </p:nvSpPr>
        <p:spPr>
          <a:xfrm rot="12940200">
            <a:off x="5229000" y="18014760"/>
            <a:ext cx="76176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612880"/>
                <a:tab algn="l" pos="5226120"/>
                <a:tab algn="l" pos="7839000"/>
                <a:tab algn="l" pos="104522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9"/>
          <p:cNvSpPr/>
          <p:nvPr/>
        </p:nvSpPr>
        <p:spPr>
          <a:xfrm flipH="1">
            <a:off x="4952520" y="17678520"/>
            <a:ext cx="1219320" cy="1752480"/>
          </a:xfrm>
          <a:prstGeom prst="line">
            <a:avLst/>
          </a:prstGeom>
          <a:ln w="1015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0:51:55Z</dcterms:created>
  <dc:creator>Helen</dc:creator>
  <dc:description/>
  <dc:language>en-US</dc:language>
  <cp:lastModifiedBy>Stefan Falke</cp:lastModifiedBy>
  <dcterms:modified xsi:type="dcterms:W3CDTF">2009-11-07T02:20:58Z</dcterms:modified>
  <cp:revision>6</cp:revision>
  <dc:subject/>
  <dc:title>Air Quality Workgroup</dc:title>
</cp:coreProperties>
</file>